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F7E9-C88E-4213-83EC-992E353B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8C73-B847-44BF-BB21-0DA9CDE8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E4A7-ED89-44F4-B025-DE98350B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D540-8996-4AAE-9FCB-F58287D2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EA9B-E032-4C38-BCB4-CF2F1F18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B25F-D4C3-4672-B223-3B09A226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DD35-E4EB-4565-8637-B676612C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D620-4503-430F-9649-11E82420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CAC7-A0BC-4EDF-88F6-3FA60BA4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3F9C-281B-43CB-A1B0-EB7D500E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08A8-4A45-4EE7-93F7-7422A52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6CC8-CE1B-4A75-9F50-4512637F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31AB-D68D-495B-893C-A3E4A9C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C934-6399-458F-8060-3F12E4B8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88B0-031A-45F3-AF7D-2EC33926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55FD-1911-4C1F-AAA8-29C760FB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F869-9A48-4ACF-A8D9-1400D3DD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25B5-B784-47DB-80A6-1BDB33ED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BAD8-4951-4EA5-A402-3D4FAAEA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5046-2412-494E-991B-43B3BE13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30D5-7041-48A0-BEAB-28633845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945E-7C22-4064-B13A-73E9692B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C6CA-9D7A-48FB-A8AB-E13A389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3C39-3E4F-4A71-8C11-B667A28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3AD-F2FF-4B12-B9D8-A2C0D588636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D2D9-99C0-4016-BE84-497EB73C8D3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220400"/>
            <a:ext cx="9577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  <a:ea typeface="Arial"/>
              </a:rPr>
              <a:t>208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  <a:ea typeface="Arial"/>
              </a:rPr>
              <a:t>Пр.297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Борба непрестанна е тоз наш живот- против Сатана всички ние сме в поход; кат' храбри войници ще го победим и вярно за нашия Вожд ще сто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1048320"/>
            <a:ext cx="9001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Arial"/>
                <a:ea typeface="Arial"/>
              </a:rPr>
              <a:t>Стой верен и ти за Христа, твоя Спас, Той верен стоя на Голгота за нас!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Arial"/>
                <a:ea typeface="Arial"/>
              </a:rPr>
              <a:t>Ти стой за Исуса, твърд за Исуса, всякога стой за Исуса!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42920" y="1459800"/>
            <a:ext cx="928692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ой верен и ти за Христа, твоя Спас, Той верен стоя на Голгота за нас! Ти стой за Исуса, твърд за Исуса, всякога стой за Исус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45980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Свое всеоръжие Бог ще дад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с правда и с истина ще облече, и с песен походна, и с вест на мира напред ще ни води към светла зор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45980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ой верен и ти за Христа, твоя Спас, Той верен стоя на Голгота за нас! Ти стой за Исуса, твърд за Исуса, всякога стой за Исус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67080"/>
            <a:ext cx="95774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3. На вярата щитът ще вечно цели да строши безброй смъртоносни стрели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 надежда за шлем ние без страх ще стои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Словото Божие за меч ще държим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1612080"/>
            <a:ext cx="89298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той верен и ти за Христа, твоя Спас, Той верен стоя на Голгота за нас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и стой за Исуса, твърд за Исуса, всякога стой за Исус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Против многобройни и хитри врази ще се укрепяваме в Господа ние; молитва усърдна ще ни укреп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шият пример тогаз ще блес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104832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Arial"/>
                <a:ea typeface="Arial"/>
              </a:rPr>
              <a:t>Стой верен и ти за Христа, твоя Спас, Той верен стоя на Голгота за нас!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Arial"/>
                <a:ea typeface="Arial"/>
              </a:rPr>
              <a:t>Ти стой за Исуса, твърд за Исуса, всякога стой за Исуса!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. Когато преминем през таз изпития оттатък ужасната смъртна рек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ни приеме на светлия бряг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ам в тържество ще го славим навек.</a:t>
            </a:r>
            <a:r>
              <a:rPr b="0" lang="bg-BG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6T09:07:41Z</dcterms:modified>
  <cp:revision>143</cp:revision>
  <dc:subject/>
  <dc:title>Slide 1</dc:title>
</cp:coreProperties>
</file>